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ACC-560B-4374-8F21-869653C9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538-6A4C-4E19-9028-B58B115E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46E-1AFF-4BC1-88A0-96C48286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FF58-948D-4EC3-B236-F7076E7D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A5F3-8B82-4FCC-988D-2A8D6268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A7DF-D171-4B1C-8147-74F2FB3D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7A49-335D-4D3A-A0CE-FD5C38EF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B5A0-D210-43DD-AD8A-4D79642E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259E-E6B9-4430-B9E6-9592CD62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174F-2A83-4622-8AFA-CF23631A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3188-8359-4467-B794-3BC7363B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444-3269-4CAE-AC86-53B889EE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22F9-E392-4014-8179-6F57B9DB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1770-DF50-4E3C-A349-96F956A6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769F-1269-413B-8698-1F096D86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C87F-4817-4500-ABB9-1DBEDD69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B520-2994-4713-98EC-4C8E2608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C5765-EFBF-41AF-9B3A-CD8AFE24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4C3F2-F379-468B-9907-BF52CB09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9B56C-CC27-4C79-BDBA-E3631606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627A8-1E09-4468-B478-469B3815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EFC66-BBC5-444F-B10A-00DAB04C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A50-D094-494D-B4A2-A5F83FF3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B0A23-5755-4771-BC27-23E3919E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090A5-E4D9-43D9-993D-7560C6D1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BD721-24E5-4F8B-BA63-08F85279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1858C-CAC1-4235-9C16-6A87182B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93FAB-E6AD-441B-AA9D-659A80E6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5F509-5004-4EA2-BAA1-00D057CC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19ECB-90C2-4E24-AD11-9C3BEC75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F46D-CC1C-42B5-97F9-8C005502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6F798-4837-4690-945D-466956A1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EC32-2EE3-45B2-AE89-430504D2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05D-FF83-4DBD-80D2-10BFB0A6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BEE18-C393-43B4-B291-0F58A8F0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F9A46-986E-4503-9FF5-5769141A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1B3F-0BA3-4F38-81F1-6BC40BB1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F13AD-A5A0-4637-B0AC-A34E3C8E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E5B25-6B08-49B9-A2DA-C89CEBE2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485B4-20FA-4C3E-BB36-9FB25315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08C09-BB42-4817-96EC-2EFC1513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78F01-C5BB-4840-8494-2D39C852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8728E-EEB3-493E-967C-C7776B48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9CF-5010-4A57-9B25-B1556768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F56-4F4D-4D27-B47B-A6A634A1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0B5-AF86-4B51-BA18-79513DA7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9C9-094F-40FA-BDD5-2F55B3B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57E-C08B-4240-A4E5-534F77C5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9BAA-51D2-487E-9275-A9228429512C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EF23-642D-4E49-813C-6566FCE89F7E}" type="slidenum">
              <a:rPr b="0" lang="pl-P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E2AD-832D-433C-8D0D-2B7634A9F084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1778-171E-4EBA-9218-472906B7F829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ytuł 1" descr=""/>
          <p:cNvPicPr/>
          <p:nvPr/>
        </p:nvPicPr>
        <p:blipFill>
          <a:blip r:embed="rId1"/>
          <a:stretch/>
        </p:blipFill>
        <p:spPr>
          <a:xfrm>
            <a:off x="4456080" y="115920"/>
            <a:ext cx="3859200" cy="2066760"/>
          </a:xfrm>
          <a:prstGeom prst="rect">
            <a:avLst/>
          </a:prstGeom>
          <a:ln w="0">
            <a:noFill/>
          </a:ln>
        </p:spPr>
      </p:pic>
      <p:pic>
        <p:nvPicPr>
          <p:cNvPr id="336" name="Podtytuł 2" descr=""/>
          <p:cNvPicPr/>
          <p:nvPr/>
        </p:nvPicPr>
        <p:blipFill>
          <a:blip r:embed="rId2"/>
          <a:stretch/>
        </p:blipFill>
        <p:spPr>
          <a:xfrm>
            <a:off x="4432320" y="2309760"/>
            <a:ext cx="1335240" cy="830160"/>
          </a:xfrm>
          <a:prstGeom prst="rect">
            <a:avLst/>
          </a:prstGeom>
          <a:ln w="0">
            <a:noFill/>
          </a:ln>
        </p:spPr>
      </p:pic>
      <p:pic>
        <p:nvPicPr>
          <p:cNvPr id="337" name="Obraz 3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23922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38160" y="619200"/>
            <a:ext cx="624384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4c600"/>
                </a:solidFill>
                <a:latin typeface="Century Gothic"/>
              </a:rPr>
              <a:t>Wypisz wszystkie liczby, które leżą w labiryncie na „trasie” od startu do met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547640" y="2421000"/>
            <a:ext cx="61963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340" name="Łuk 9"/>
          <p:cNvGrpSpPr/>
          <p:nvPr/>
        </p:nvGrpSpPr>
        <p:grpSpPr>
          <a:xfrm>
            <a:off x="781200" y="1835280"/>
            <a:ext cx="7315200" cy="322200"/>
            <a:chOff x="781200" y="1835280"/>
            <a:chExt cx="7315200" cy="322200"/>
          </a:xfrm>
        </p:grpSpPr>
        <p:pic>
          <p:nvPicPr>
            <p:cNvPr id="341" name="Łuk 9" descr=""/>
            <p:cNvPicPr/>
            <p:nvPr/>
          </p:nvPicPr>
          <p:blipFill>
            <a:blip r:embed="rId1"/>
            <a:stretch/>
          </p:blipFill>
          <p:spPr>
            <a:xfrm>
              <a:off x="781200" y="183528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57160" y="1886040"/>
              <a:ext cx="71708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43" name="Objaśnienie prostokątne zaokrąglone 4"/>
          <p:cNvSpPr/>
          <p:nvPr/>
        </p:nvSpPr>
        <p:spPr>
          <a:xfrm>
            <a:off x="6178680" y="4508640"/>
            <a:ext cx="2732040" cy="1608120"/>
          </a:xfrm>
          <a:prstGeom prst="wedgeRoundRectCallout">
            <a:avLst>
              <a:gd name="adj1" fmla="val 47143"/>
              <a:gd name="adj2" fmla="val 96856"/>
              <a:gd name="adj3" fmla="val 1666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Sprawdź, które liczby dzielą się przez </a:t>
            </a:r>
            <a:r>
              <a:rPr b="1" lang="pl-PL" sz="1800" spc="-1" strike="noStrike">
                <a:solidFill>
                  <a:srgbClr val="2e2e22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i wypisz je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e2e22"/>
                </a:solidFill>
                <a:latin typeface="Century Gothic"/>
              </a:rPr>
              <a:t>Co zauważyłeś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4" name="Obraz 12" descr=""/>
          <p:cNvPicPr/>
          <p:nvPr/>
        </p:nvPicPr>
        <p:blipFill>
          <a:blip r:embed="rId2"/>
          <a:stretch/>
        </p:blipFill>
        <p:spPr>
          <a:xfrm>
            <a:off x="1851120" y="2119320"/>
            <a:ext cx="4176720" cy="4260960"/>
          </a:xfrm>
          <a:prstGeom prst="rect">
            <a:avLst/>
          </a:prstGeom>
          <a:ln w="0">
            <a:noFill/>
          </a:ln>
        </p:spPr>
      </p:pic>
      <p:sp>
        <p:nvSpPr>
          <p:cNvPr id="345" name="pole tekstowe 36"/>
          <p:cNvSpPr/>
          <p:nvPr/>
        </p:nvSpPr>
        <p:spPr>
          <a:xfrm>
            <a:off x="1236600" y="4235400"/>
            <a:ext cx="7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start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Strzałka w prawo z wcięciem 13"/>
          <p:cNvSpPr/>
          <p:nvPr/>
        </p:nvSpPr>
        <p:spPr>
          <a:xfrm rot="1053000">
            <a:off x="1553760" y="3767040"/>
            <a:ext cx="863640" cy="550800"/>
          </a:xfrm>
          <a:custGeom>
            <a:avLst/>
            <a:gdLst>
              <a:gd name="textAreaLeft" fmla="*/ 137880 w 863640"/>
              <a:gd name="textAreaRight" fmla="*/ 725760 w 863640"/>
              <a:gd name="textAreaTop" fmla="*/ 137520 h 550800"/>
              <a:gd name="textAreaBottom" fmla="*/ 413280 h 550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04" y="5400"/>
                </a:lnTo>
                <a:lnTo>
                  <a:pt x="14704" y="0"/>
                </a:lnTo>
                <a:lnTo>
                  <a:pt x="21600" y="10800"/>
                </a:lnTo>
                <a:lnTo>
                  <a:pt x="14704" y="21600"/>
                </a:lnTo>
                <a:lnTo>
                  <a:pt x="14704" y="16200"/>
                </a:lnTo>
                <a:lnTo>
                  <a:pt x="0" y="16200"/>
                </a:lnTo>
                <a:lnTo>
                  <a:pt x="344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ole tekstowe 37"/>
          <p:cNvSpPr/>
          <p:nvPr/>
        </p:nvSpPr>
        <p:spPr>
          <a:xfrm>
            <a:off x="4875120" y="2243160"/>
            <a:ext cx="7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meta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ole tekstowe 3"/>
          <p:cNvSpPr/>
          <p:nvPr/>
        </p:nvSpPr>
        <p:spPr>
          <a:xfrm>
            <a:off x="2643120" y="39909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08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ole tekstowe 38"/>
          <p:cNvSpPr/>
          <p:nvPr/>
        </p:nvSpPr>
        <p:spPr>
          <a:xfrm>
            <a:off x="2643120" y="4711680"/>
            <a:ext cx="56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29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ole tekstowe 39"/>
          <p:cNvSpPr/>
          <p:nvPr/>
        </p:nvSpPr>
        <p:spPr>
          <a:xfrm>
            <a:off x="3362400" y="471636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17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ole tekstowe 40"/>
          <p:cNvSpPr/>
          <p:nvPr/>
        </p:nvSpPr>
        <p:spPr>
          <a:xfrm>
            <a:off x="4041720" y="364824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5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ole tekstowe 41"/>
          <p:cNvSpPr/>
          <p:nvPr/>
        </p:nvSpPr>
        <p:spPr>
          <a:xfrm>
            <a:off x="2786040" y="32209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ole tekstowe 42"/>
          <p:cNvSpPr/>
          <p:nvPr/>
        </p:nvSpPr>
        <p:spPr>
          <a:xfrm>
            <a:off x="3686040" y="32925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722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ole tekstowe 43"/>
          <p:cNvSpPr/>
          <p:nvPr/>
        </p:nvSpPr>
        <p:spPr>
          <a:xfrm>
            <a:off x="3576600" y="5504040"/>
            <a:ext cx="5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48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ole tekstowe 44"/>
          <p:cNvSpPr/>
          <p:nvPr/>
        </p:nvSpPr>
        <p:spPr>
          <a:xfrm>
            <a:off x="4370400" y="50734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885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ole tekstowe 45"/>
          <p:cNvSpPr/>
          <p:nvPr/>
        </p:nvSpPr>
        <p:spPr>
          <a:xfrm>
            <a:off x="4083120" y="5767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4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ole tekstowe 46"/>
          <p:cNvSpPr/>
          <p:nvPr/>
        </p:nvSpPr>
        <p:spPr>
          <a:xfrm>
            <a:off x="4678200" y="43894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940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ole tekstowe 47"/>
          <p:cNvSpPr/>
          <p:nvPr/>
        </p:nvSpPr>
        <p:spPr>
          <a:xfrm>
            <a:off x="5091120" y="39546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024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ole tekstowe 48"/>
          <p:cNvSpPr/>
          <p:nvPr/>
        </p:nvSpPr>
        <p:spPr>
          <a:xfrm>
            <a:off x="5091120" y="28861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148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5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250"/>
                            </p:stCondLst>
                            <p:childTnLst>
                              <p:par>
                                <p:cTn id="10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Objaśnienie w chmurce 5"/>
          <p:cNvSpPr/>
          <p:nvPr/>
        </p:nvSpPr>
        <p:spPr>
          <a:xfrm>
            <a:off x="395280" y="2708280"/>
            <a:ext cx="4824360" cy="3132000"/>
          </a:xfrm>
          <a:prstGeom prst="cloudCallout">
            <a:avLst>
              <a:gd name="adj1" fmla="val -56171"/>
              <a:gd name="adj2" fmla="val 45768"/>
            </a:avLst>
          </a:prstGeom>
          <a:solidFill>
            <a:srgbClr val="00b0f0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38160" y="619200"/>
            <a:ext cx="624384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4c600"/>
                </a:solidFill>
                <a:latin typeface="Century Gothic"/>
              </a:rPr>
              <a:t>Cecha podzielności liczb przez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2" name="Symbol zastępczy zawartości 2" descr=""/>
          <p:cNvPicPr/>
          <p:nvPr/>
        </p:nvPicPr>
        <p:blipFill>
          <a:blip r:embed="rId1"/>
          <a:stretch/>
        </p:blipFill>
        <p:spPr>
          <a:xfrm>
            <a:off x="3419640" y="2114640"/>
            <a:ext cx="470664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63" name="Łuk 9"/>
          <p:cNvGrpSpPr/>
          <p:nvPr/>
        </p:nvGrpSpPr>
        <p:grpSpPr>
          <a:xfrm>
            <a:off x="781200" y="1835280"/>
            <a:ext cx="7315200" cy="322200"/>
            <a:chOff x="781200" y="1835280"/>
            <a:chExt cx="7315200" cy="322200"/>
          </a:xfrm>
        </p:grpSpPr>
        <p:pic>
          <p:nvPicPr>
            <p:cNvPr id="364" name="Łuk 9" descr=""/>
            <p:cNvPicPr/>
            <p:nvPr/>
          </p:nvPicPr>
          <p:blipFill>
            <a:blip r:embed="rId2"/>
            <a:stretch/>
          </p:blipFill>
          <p:spPr>
            <a:xfrm>
              <a:off x="781200" y="183528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857160" y="1886040"/>
              <a:ext cx="71708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66" name="Objaśnienie prostokątne zaokrąglone 4"/>
          <p:cNvSpPr/>
          <p:nvPr/>
        </p:nvSpPr>
        <p:spPr>
          <a:xfrm>
            <a:off x="4989600" y="4581360"/>
            <a:ext cx="4027320" cy="1743120"/>
          </a:xfrm>
          <a:prstGeom prst="wedgeRoundRectCallout">
            <a:avLst>
              <a:gd name="adj1" fmla="val 46726"/>
              <a:gd name="adj2" fmla="val 84439"/>
              <a:gd name="adj3" fmla="val 1666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Przyjrzyj się cyfrom jedności, co zauważasz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Jaki jest wniosek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z przeprowadzonej obserwacji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7" name="Obraz 22" descr=""/>
          <p:cNvPicPr/>
          <p:nvPr/>
        </p:nvPicPr>
        <p:blipFill>
          <a:blip r:embed="rId3"/>
          <a:stretch/>
        </p:blipFill>
        <p:spPr>
          <a:xfrm>
            <a:off x="6516720" y="849240"/>
            <a:ext cx="9730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7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25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7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ytuł 1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967440" cy="792000"/>
          </a:xfrm>
          <a:prstGeom prst="rect">
            <a:avLst/>
          </a:prstGeom>
          <a:ln w="0">
            <a:noFill/>
          </a:ln>
        </p:spPr>
      </p:pic>
      <p:sp>
        <p:nvSpPr>
          <p:cNvPr id="369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94c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0" name="pole tekstowe 7" descr=""/>
          <p:cNvPicPr/>
          <p:nvPr/>
        </p:nvPicPr>
        <p:blipFill>
          <a:blip r:embed="rId2"/>
          <a:stretch/>
        </p:blipFill>
        <p:spPr>
          <a:xfrm>
            <a:off x="2798640" y="2073240"/>
            <a:ext cx="5527800" cy="1773360"/>
          </a:xfrm>
          <a:prstGeom prst="rect">
            <a:avLst/>
          </a:prstGeom>
          <a:ln w="0">
            <a:noFill/>
          </a:ln>
        </p:spPr>
      </p:pic>
      <p:pic>
        <p:nvPicPr>
          <p:cNvPr id="371" name="Obraz 2" descr=""/>
          <p:cNvPicPr/>
          <p:nvPr/>
        </p:nvPicPr>
        <p:blipFill>
          <a:blip r:embed="rId3"/>
          <a:stretch/>
        </p:blipFill>
        <p:spPr>
          <a:xfrm>
            <a:off x="825480" y="2276640"/>
            <a:ext cx="4086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75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5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75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25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7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6964200" cy="9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3" name="Symbol zastępczy zawartości 2" descr=""/>
          <p:cNvPicPr/>
          <p:nvPr/>
        </p:nvPicPr>
        <p:blipFill>
          <a:blip r:embed="rId1"/>
          <a:stretch/>
        </p:blipFill>
        <p:spPr>
          <a:xfrm>
            <a:off x="1262160" y="1633680"/>
            <a:ext cx="6888240" cy="4389120"/>
          </a:xfrm>
          <a:prstGeom prst="rect">
            <a:avLst/>
          </a:prstGeom>
          <a:ln w="0">
            <a:noFill/>
          </a:ln>
        </p:spPr>
      </p:pic>
      <p:grpSp>
        <p:nvGrpSpPr>
          <p:cNvPr id="374" name="Łuk 14"/>
          <p:cNvGrpSpPr/>
          <p:nvPr/>
        </p:nvGrpSpPr>
        <p:grpSpPr>
          <a:xfrm>
            <a:off x="762120" y="1438200"/>
            <a:ext cx="7315200" cy="324000"/>
            <a:chOff x="762120" y="1438200"/>
            <a:chExt cx="7315200" cy="324000"/>
          </a:xfrm>
        </p:grpSpPr>
        <p:pic>
          <p:nvPicPr>
            <p:cNvPr id="375" name="Łuk 14" descr=""/>
            <p:cNvPicPr/>
            <p:nvPr/>
          </p:nvPicPr>
          <p:blipFill>
            <a:blip r:embed="rId2"/>
            <a:stretch/>
          </p:blipFill>
          <p:spPr>
            <a:xfrm>
              <a:off x="762120" y="1438200"/>
              <a:ext cx="731520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838080" y="1487520"/>
              <a:ext cx="7172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77" name="Grupa 26"/>
          <p:cNvGrpSpPr/>
          <p:nvPr/>
        </p:nvGrpSpPr>
        <p:grpSpPr>
          <a:xfrm>
            <a:off x="934560" y="2602080"/>
            <a:ext cx="973440" cy="461880"/>
            <a:chOff x="934560" y="2602080"/>
            <a:chExt cx="973440" cy="461880"/>
          </a:xfrm>
        </p:grpSpPr>
        <p:sp>
          <p:nvSpPr>
            <p:cNvPr id="378" name="Prostokąt 3"/>
            <p:cNvSpPr/>
            <p:nvPr/>
          </p:nvSpPr>
          <p:spPr>
            <a:xfrm>
              <a:off x="140400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9" name="pole tekstowe 5"/>
            <p:cNvSpPr/>
            <p:nvPr/>
          </p:nvSpPr>
          <p:spPr>
            <a:xfrm>
              <a:off x="934560" y="2602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80" name="Grupa 25"/>
          <p:cNvGrpSpPr/>
          <p:nvPr/>
        </p:nvGrpSpPr>
        <p:grpSpPr>
          <a:xfrm>
            <a:off x="2525040" y="2606760"/>
            <a:ext cx="1183320" cy="461880"/>
            <a:chOff x="2525040" y="2606760"/>
            <a:chExt cx="1183320" cy="461880"/>
          </a:xfrm>
        </p:grpSpPr>
        <p:sp>
          <p:nvSpPr>
            <p:cNvPr id="381" name="Prostokąt 15"/>
            <p:cNvSpPr/>
            <p:nvPr/>
          </p:nvSpPr>
          <p:spPr>
            <a:xfrm>
              <a:off x="3204000" y="2708280"/>
              <a:ext cx="50436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2" name="pole tekstowe 16"/>
            <p:cNvSpPr/>
            <p:nvPr/>
          </p:nvSpPr>
          <p:spPr>
            <a:xfrm>
              <a:off x="2525040" y="260676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253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83" name="Grupa 6"/>
          <p:cNvGrpSpPr/>
          <p:nvPr/>
        </p:nvGrpSpPr>
        <p:grpSpPr>
          <a:xfrm>
            <a:off x="4456080" y="2602080"/>
            <a:ext cx="1411200" cy="461880"/>
            <a:chOff x="4456080" y="2602080"/>
            <a:chExt cx="1411200" cy="461880"/>
          </a:xfrm>
        </p:grpSpPr>
        <p:sp>
          <p:nvSpPr>
            <p:cNvPr id="384" name="Prostokąt 17"/>
            <p:cNvSpPr/>
            <p:nvPr/>
          </p:nvSpPr>
          <p:spPr>
            <a:xfrm>
              <a:off x="536328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5" name="pole tekstowe 18"/>
            <p:cNvSpPr/>
            <p:nvPr/>
          </p:nvSpPr>
          <p:spPr>
            <a:xfrm>
              <a:off x="4893480" y="2602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6" name="Prostokąt 21"/>
            <p:cNvSpPr/>
            <p:nvPr/>
          </p:nvSpPr>
          <p:spPr>
            <a:xfrm>
              <a:off x="445608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87" name="Grupa 24"/>
          <p:cNvGrpSpPr/>
          <p:nvPr/>
        </p:nvGrpSpPr>
        <p:grpSpPr>
          <a:xfrm>
            <a:off x="6302160" y="2602080"/>
            <a:ext cx="1798920" cy="461880"/>
            <a:chOff x="6302160" y="2602080"/>
            <a:chExt cx="1798920" cy="461880"/>
          </a:xfrm>
        </p:grpSpPr>
        <p:sp>
          <p:nvSpPr>
            <p:cNvPr id="388" name="Prostokąt 19"/>
            <p:cNvSpPr/>
            <p:nvPr/>
          </p:nvSpPr>
          <p:spPr>
            <a:xfrm>
              <a:off x="677160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9" name="pole tekstowe 20"/>
            <p:cNvSpPr/>
            <p:nvPr/>
          </p:nvSpPr>
          <p:spPr>
            <a:xfrm>
              <a:off x="6302160" y="2602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0" name="pole tekstowe 22"/>
            <p:cNvSpPr/>
            <p:nvPr/>
          </p:nvSpPr>
          <p:spPr>
            <a:xfrm>
              <a:off x="7277040" y="2602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1" name="Prostokąt 23"/>
            <p:cNvSpPr/>
            <p:nvPr/>
          </p:nvSpPr>
          <p:spPr>
            <a:xfrm>
              <a:off x="759708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7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50"/>
                            </p:stCondLst>
                            <p:childTnLst>
                              <p:par>
                                <p:cTn id="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7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5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696420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93" name="Symbol zastępczy zawartości 2" descr=""/>
          <p:cNvPicPr/>
          <p:nvPr/>
        </p:nvPicPr>
        <p:blipFill>
          <a:blip r:embed="rId1"/>
          <a:stretch/>
        </p:blipFill>
        <p:spPr>
          <a:xfrm>
            <a:off x="1079640" y="1170000"/>
            <a:ext cx="7094520" cy="2620800"/>
          </a:xfrm>
          <a:prstGeom prst="rect">
            <a:avLst/>
          </a:prstGeom>
          <a:ln w="0">
            <a:noFill/>
          </a:ln>
        </p:spPr>
      </p:pic>
      <p:grpSp>
        <p:nvGrpSpPr>
          <p:cNvPr id="394" name="Łuk 14"/>
          <p:cNvGrpSpPr/>
          <p:nvPr/>
        </p:nvGrpSpPr>
        <p:grpSpPr>
          <a:xfrm>
            <a:off x="725400" y="1006560"/>
            <a:ext cx="7315200" cy="322200"/>
            <a:chOff x="725400" y="1006560"/>
            <a:chExt cx="7315200" cy="322200"/>
          </a:xfrm>
        </p:grpSpPr>
        <p:pic>
          <p:nvPicPr>
            <p:cNvPr id="395" name="Łuk 14" descr=""/>
            <p:cNvPicPr/>
            <p:nvPr/>
          </p:nvPicPr>
          <p:blipFill>
            <a:blip r:embed="rId2"/>
            <a:stretch/>
          </p:blipFill>
          <p:spPr>
            <a:xfrm>
              <a:off x="725400" y="100656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800280" y="1052640"/>
              <a:ext cx="71704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97" name="Grupa 8"/>
          <p:cNvGrpSpPr/>
          <p:nvPr/>
        </p:nvGrpSpPr>
        <p:grpSpPr>
          <a:xfrm>
            <a:off x="836640" y="3789360"/>
            <a:ext cx="5607000" cy="2679840"/>
            <a:chOff x="836640" y="3789360"/>
            <a:chExt cx="5607000" cy="2679840"/>
          </a:xfrm>
        </p:grpSpPr>
        <p:sp>
          <p:nvSpPr>
            <p:cNvPr id="398" name="Prostokąt 4"/>
            <p:cNvSpPr/>
            <p:nvPr/>
          </p:nvSpPr>
          <p:spPr>
            <a:xfrm>
              <a:off x="836640" y="3804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9" name="Prostokąt 27"/>
            <p:cNvSpPr/>
            <p:nvPr/>
          </p:nvSpPr>
          <p:spPr>
            <a:xfrm>
              <a:off x="1628280" y="3804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0" name="Prostokąt 28"/>
            <p:cNvSpPr/>
            <p:nvPr/>
          </p:nvSpPr>
          <p:spPr>
            <a:xfrm>
              <a:off x="2412000" y="378936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1" name="Prostokąt 29"/>
            <p:cNvSpPr/>
            <p:nvPr/>
          </p:nvSpPr>
          <p:spPr>
            <a:xfrm>
              <a:off x="844200" y="474084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2" name="Prostokąt 30"/>
            <p:cNvSpPr/>
            <p:nvPr/>
          </p:nvSpPr>
          <p:spPr>
            <a:xfrm>
              <a:off x="1636200" y="4740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3" name="Prostokąt 31"/>
            <p:cNvSpPr/>
            <p:nvPr/>
          </p:nvSpPr>
          <p:spPr>
            <a:xfrm>
              <a:off x="2419920" y="472536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4" name="Prostokąt 32"/>
            <p:cNvSpPr/>
            <p:nvPr/>
          </p:nvSpPr>
          <p:spPr>
            <a:xfrm>
              <a:off x="844200" y="567720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5" name="Prostokąt 33"/>
            <p:cNvSpPr/>
            <p:nvPr/>
          </p:nvSpPr>
          <p:spPr>
            <a:xfrm>
              <a:off x="1636200" y="567720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6" name="Prostokąt 34"/>
            <p:cNvSpPr/>
            <p:nvPr/>
          </p:nvSpPr>
          <p:spPr>
            <a:xfrm>
              <a:off x="2419920" y="566172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7" name="Prostokąt 35"/>
            <p:cNvSpPr/>
            <p:nvPr/>
          </p:nvSpPr>
          <p:spPr>
            <a:xfrm>
              <a:off x="4221360" y="3804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8" name="Prostokąt 36"/>
            <p:cNvSpPr/>
            <p:nvPr/>
          </p:nvSpPr>
          <p:spPr>
            <a:xfrm>
              <a:off x="5013000" y="3804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9" name="Prostokąt 37"/>
            <p:cNvSpPr/>
            <p:nvPr/>
          </p:nvSpPr>
          <p:spPr>
            <a:xfrm>
              <a:off x="5796720" y="378936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0" name="Prostokąt 38"/>
            <p:cNvSpPr/>
            <p:nvPr/>
          </p:nvSpPr>
          <p:spPr>
            <a:xfrm>
              <a:off x="4228920" y="4740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1" name="Prostokąt 39"/>
            <p:cNvSpPr/>
            <p:nvPr/>
          </p:nvSpPr>
          <p:spPr>
            <a:xfrm>
              <a:off x="5020920" y="474084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2" name="Prostokąt 40"/>
            <p:cNvSpPr/>
            <p:nvPr/>
          </p:nvSpPr>
          <p:spPr>
            <a:xfrm>
              <a:off x="5804640" y="472536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3" name="Prostokąt 41"/>
            <p:cNvSpPr/>
            <p:nvPr/>
          </p:nvSpPr>
          <p:spPr>
            <a:xfrm>
              <a:off x="4228920" y="567720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4" name="Prostokąt 42"/>
            <p:cNvSpPr/>
            <p:nvPr/>
          </p:nvSpPr>
          <p:spPr>
            <a:xfrm>
              <a:off x="5020920" y="567720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Prostokąt 43"/>
            <p:cNvSpPr/>
            <p:nvPr/>
          </p:nvSpPr>
          <p:spPr>
            <a:xfrm>
              <a:off x="5804640" y="566172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16" name="Grupa 9"/>
          <p:cNvGrpSpPr/>
          <p:nvPr/>
        </p:nvGrpSpPr>
        <p:grpSpPr>
          <a:xfrm>
            <a:off x="2440440" y="2723760"/>
            <a:ext cx="2694960" cy="927360"/>
            <a:chOff x="2440440" y="2723760"/>
            <a:chExt cx="2694960" cy="927360"/>
          </a:xfrm>
        </p:grpSpPr>
        <p:sp>
          <p:nvSpPr>
            <p:cNvPr id="417" name="Prostokąt 44"/>
            <p:cNvSpPr/>
            <p:nvPr/>
          </p:nvSpPr>
          <p:spPr>
            <a:xfrm rot="20719200">
              <a:off x="2530080" y="2791800"/>
              <a:ext cx="639000" cy="79128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70c0"/>
                  </a:solidFill>
                  <a:latin typeface="Century Gothic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Prostokąt 45"/>
            <p:cNvSpPr/>
            <p:nvPr/>
          </p:nvSpPr>
          <p:spPr>
            <a:xfrm rot="858000">
              <a:off x="3496320" y="2790720"/>
              <a:ext cx="639000" cy="79128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70c0"/>
                  </a:solidFill>
                  <a:latin typeface="Century Gothic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Prostokąt 46"/>
            <p:cNvSpPr/>
            <p:nvPr/>
          </p:nvSpPr>
          <p:spPr>
            <a:xfrm>
              <a:off x="4496400" y="2828160"/>
              <a:ext cx="639000" cy="79128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20" name="Objaśnienie prostokątne zaokrąglone 7"/>
          <p:cNvSpPr/>
          <p:nvPr/>
        </p:nvSpPr>
        <p:spPr>
          <a:xfrm>
            <a:off x="6732720" y="3573360"/>
            <a:ext cx="2303280" cy="1295640"/>
          </a:xfrm>
          <a:prstGeom prst="wedgeRoundRectCallout">
            <a:avLst>
              <a:gd name="adj1" fmla="val 56050"/>
              <a:gd name="adj2" fmla="val 85648"/>
              <a:gd name="adj3" fmla="val 16667"/>
            </a:avLst>
          </a:prstGeom>
          <a:solidFill>
            <a:srgbClr val="ff6700"/>
          </a:solidFill>
          <a:ln w="1584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</a:rPr>
              <a:t>Czy w miejsce kratek  można wpisać tylko jedną cyfrę?  Odpowiedź uzasadnij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7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5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7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75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5640" y="280800"/>
            <a:ext cx="69642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2" name="Symbol zastępczy zawartości 2" descr=""/>
          <p:cNvPicPr/>
          <p:nvPr/>
        </p:nvPicPr>
        <p:blipFill>
          <a:blip r:embed="rId1"/>
          <a:stretch/>
        </p:blipFill>
        <p:spPr>
          <a:xfrm>
            <a:off x="1079640" y="1414440"/>
            <a:ext cx="7094520" cy="1798560"/>
          </a:xfrm>
          <a:prstGeom prst="rect">
            <a:avLst/>
          </a:prstGeom>
          <a:ln w="0">
            <a:noFill/>
          </a:ln>
        </p:spPr>
      </p:pic>
      <p:grpSp>
        <p:nvGrpSpPr>
          <p:cNvPr id="423" name="Łuk 14"/>
          <p:cNvGrpSpPr/>
          <p:nvPr/>
        </p:nvGrpSpPr>
        <p:grpSpPr>
          <a:xfrm>
            <a:off x="725400" y="1182600"/>
            <a:ext cx="7315200" cy="322200"/>
            <a:chOff x="725400" y="1182600"/>
            <a:chExt cx="7315200" cy="322200"/>
          </a:xfrm>
        </p:grpSpPr>
        <p:pic>
          <p:nvPicPr>
            <p:cNvPr id="424" name="Łuk 14" descr=""/>
            <p:cNvPicPr/>
            <p:nvPr/>
          </p:nvPicPr>
          <p:blipFill>
            <a:blip r:embed="rId2"/>
            <a:stretch/>
          </p:blipFill>
          <p:spPr>
            <a:xfrm>
              <a:off x="725400" y="118260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800280" y="1233360"/>
              <a:ext cx="71704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2487600" y="3213000"/>
          <a:ext cx="4105440" cy="278136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87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7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50"/>
                            </p:stCondLst>
                            <p:childTnLst>
                              <p:par>
                                <p:cTn id="2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75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15640" y="280800"/>
            <a:ext cx="69642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92160" y="1699920"/>
            <a:ext cx="709632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 czy podane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sumy 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ą liczbami podzielnymi przez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71 + 72 + 73 + 74 =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54 + 56 + 58 =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33 + 35 + 37 =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, czy suma kolejnych dziesięciu liczb pierwszych będzie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 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 czy suma kolejnych pięciu liczb złożonych będzie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Odpowiedz na pytanie, kiedy suma dowolnych liczb naturalnych jest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429" name="Łuk 14"/>
          <p:cNvGrpSpPr/>
          <p:nvPr/>
        </p:nvGrpSpPr>
        <p:grpSpPr>
          <a:xfrm>
            <a:off x="725400" y="1182600"/>
            <a:ext cx="7315200" cy="322200"/>
            <a:chOff x="725400" y="1182600"/>
            <a:chExt cx="7315200" cy="322200"/>
          </a:xfrm>
        </p:grpSpPr>
        <p:pic>
          <p:nvPicPr>
            <p:cNvPr id="430" name="Łuk 14" descr=""/>
            <p:cNvPicPr/>
            <p:nvPr/>
          </p:nvPicPr>
          <p:blipFill>
            <a:blip r:embed="rId1"/>
            <a:stretch/>
          </p:blipFill>
          <p:spPr>
            <a:xfrm>
              <a:off x="725400" y="118260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800280" y="1233360"/>
              <a:ext cx="71704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432" name="Obraz 5" descr=""/>
          <p:cNvPicPr/>
          <p:nvPr/>
        </p:nvPicPr>
        <p:blipFill>
          <a:blip r:embed="rId2"/>
          <a:stretch/>
        </p:blipFill>
        <p:spPr>
          <a:xfrm>
            <a:off x="7489800" y="1447920"/>
            <a:ext cx="79380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75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50"/>
                            </p:stCondLst>
                            <p:childTnLst>
                              <p:par>
                                <p:cTn id="2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75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75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5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75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75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75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75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75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75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5640" y="280800"/>
            <a:ext cx="69642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99640" y="1628640"/>
            <a:ext cx="7094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55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, czy podane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iloczyny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są liczbami podzielnymi przez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2 · 3 · 5 · 7 =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4 · 6 · 8 · 9 =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75 · 7 =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121 · 4 = 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 czy iloczyn liczb pierwszych od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11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do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0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jest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 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 czy iloczyn liczb złożonych od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31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do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37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jest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 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Wykonując obliczenia skorzystaj z kalkulatora.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Odpowiedz na pytanie, kiedy iloczyn dowolnych liczb naturalnych jest podzielny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435" name="Łuk 14"/>
          <p:cNvGrpSpPr/>
          <p:nvPr/>
        </p:nvGrpSpPr>
        <p:grpSpPr>
          <a:xfrm>
            <a:off x="725400" y="1182600"/>
            <a:ext cx="7315200" cy="322200"/>
            <a:chOff x="725400" y="1182600"/>
            <a:chExt cx="7315200" cy="322200"/>
          </a:xfrm>
        </p:grpSpPr>
        <p:pic>
          <p:nvPicPr>
            <p:cNvPr id="436" name="Łuk 14" descr=""/>
            <p:cNvPicPr/>
            <p:nvPr/>
          </p:nvPicPr>
          <p:blipFill>
            <a:blip r:embed="rId1"/>
            <a:stretch/>
          </p:blipFill>
          <p:spPr>
            <a:xfrm>
              <a:off x="725400" y="118260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800280" y="1233360"/>
              <a:ext cx="71704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438" name="Obraz 5" descr=""/>
          <p:cNvPicPr/>
          <p:nvPr/>
        </p:nvPicPr>
        <p:blipFill>
          <a:blip r:embed="rId2"/>
          <a:stretch/>
        </p:blipFill>
        <p:spPr>
          <a:xfrm>
            <a:off x="7738920" y="1413000"/>
            <a:ext cx="79380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7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5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7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75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25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75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75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75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75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75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75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750"/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750"/>
                                        <p:tgtEl>
                                          <p:spTgt spid="4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08:26:29Z</dcterms:created>
  <dc:creator>Ania</dc:creator>
  <dc:description/>
  <dc:language>en-US</dc:language>
  <cp:lastModifiedBy>Ania</cp:lastModifiedBy>
  <dcterms:modified xsi:type="dcterms:W3CDTF">2013-08-21T12:54:53Z</dcterms:modified>
  <cp:revision>84</cp:revision>
  <dc:subject/>
  <dc:title>Mnożenie i dzielenie w zadaniach</dc:title>
</cp:coreProperties>
</file>